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9.png" ContentType="image/png"/>
  <Override PartName="/ppt/media/image10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26.wmf" ContentType="image/x-wmf"/>
  <Override PartName="/ppt/media/image25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0228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199120" cy="459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22640" y="9723240"/>
            <a:ext cx="3068640" cy="502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5A844-FDBB-4F62-AD93-2D1102B8FE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BF064-8DBD-4CAE-A598-35B474D109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4083E-2BD8-4734-8082-6E25B37992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B852B-F860-4350-B3CA-D05BCB3ADA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A5760-E72E-434D-BD0C-0E36769F31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FEDA7-1F7C-4D01-A56B-D1DB2CEF1A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713E1-AA28-4420-A62C-625994DC56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F75AC-A723-4434-842C-8A06ED055F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D86E8-50AC-43B2-A33E-49DFB2A144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F4116-E0D8-49A6-AC57-647F55E1A5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56737-7784-4BF5-8399-95D8F4C101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0FAA2-E6E3-4DBC-9491-E402F44BEA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6D1A4-72E9-48DA-B9CB-7C3CA73E29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454D1-A3CC-4BB8-ABED-4FDD5436A7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B7172-70AC-46D7-86E2-E7803C27D1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6D19F-0047-4E37-AE65-E7B80B449A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A702C-A9DF-4D1A-B4AB-061945E8E6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1A301-56CC-4D3B-B13B-3F0B207123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79D5A-F1DE-47D5-8383-42FED5BA1E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4BCBD-FCC5-49ED-9965-496EEFB0D3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249C9-C28C-4140-BF1B-71D8888B5F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046E9-F944-4E90-A2B9-BA788A0542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21348-8AF4-4DDB-BEF1-0AF71AF905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DD84A-3CE6-42E4-936C-4EFCD20E9B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E0F53-E19F-45B9-9CF1-D1AE0C3397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ABEED-2E78-4D95-A46F-A3F10FF410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73E59-EC47-4B26-B5F3-655F7C6011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1CCF3-C6FC-4B52-B73A-A1E581AAE8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EDB62-C3C6-4CA4-A66B-D398163F65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1E44B-D827-4882-B564-6E125A81E9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093C2-D004-457B-959F-E0F30835CA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03DB0-B21A-47F1-8CD3-884FCEB58C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C1098-1BEB-4FCE-B3B7-2E2ADB8E60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4AD2A-26E3-45BE-B204-0CAD905653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A26EF-C88F-4FC8-8056-53A41E0EF0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1C29-9A99-4FA9-B97F-381919B0D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7F9A-A767-4D2F-A3DC-6480EB84A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95F0-0CBD-4B05-A916-A24009514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1E28-2BC3-45B8-A5B8-CCE1E8D87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21BD-F03A-4A25-9920-D2B4284E2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E9B5-F464-4F8A-8437-8218258EC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D18B-612A-4665-A0D2-74231966F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79FB-3ABF-47FA-B2C2-AAA665A19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5E8E-B5CE-4FF8-9967-6BFC1A124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BF34-0BCB-400F-BB8B-10BC0228E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55426-8717-49D7-8BA6-4EF064876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2D95-F923-4271-845E-0C8AF928B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06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6C699-A32E-4B0E-8181-BDDFA6FFD9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56196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rebuchet MS"/>
              </a:rPr>
              <a:t>adrian.pop@liu.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pdated 2010-11-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EF4E6-C172-4B1F-8F79-25AC46271F7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C254A-F27C-413D-9165-2D5A571243E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86E56-C86A-433F-89F2-2A45AA80A1E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F05C7-8164-41C2-A316-2A9C0C0B7E3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 or copy a simple model into an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Open the Eclipse view “OpenModelica conso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imulate with the simulate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plot with the plot comm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17B2D-DAA7-4D23-A39E-2E8BF2E05D0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A7240-588E-44D7-9458-98F2EC6D63C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720720"/>
            <a:ext cx="65340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FD9AD-1DD0-4374-A1A3-4320288010D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971720" y="2700360"/>
            <a:ext cx="9144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780000" y="1254240"/>
            <a:ext cx="1979280" cy="18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6040" y="2049480"/>
            <a:ext cx="70995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use Rebuild Project or th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ild Project only works if you modify a sourc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aving pressed the button once, Alt+B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FBB1A-AE2E-4D5A-A44E-3EF7248A809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4564080" y="2133720"/>
            <a:ext cx="73656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09080" y="1440000"/>
            <a:ext cx="4208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835360" y="4861080"/>
            <a:ext cx="1744560" cy="13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19280" y="4861080"/>
            <a:ext cx="431640" cy="73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680" y="5580000"/>
            <a:ext cx="3826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ave in the problems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4A7FA-4FEE-4DD4-8FB8-D3096ABD63F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0"/>
            <a:ext cx="810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Debu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529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EB8D4-E90F-406B-88DE-4B3CBC4B6FF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using O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Not yet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Debug data structures using printAny(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You can also switch to RML for an algorithmic debu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315C4-2CA1-4A04-8AF9-5D5900F325C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B450A-90D7-4FAF-8B46-141F788AC5C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anging compiler to R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0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80852-85DB-4584-85E5-8E7AFF7708E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 (RML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1A02F-3F9A-46E8-917E-8508D65A895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pecify the name of the execu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 flipV="1">
            <a:off x="5643360" y="2341440"/>
            <a:ext cx="1260360" cy="655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29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Browse and select the executable you just bu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F18D5-A570-4496-899E-37ABA7368CA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H="1" flipV="1">
            <a:off x="2043000" y="2916000"/>
            <a:ext cx="1548000" cy="159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D81B3-34EA-4CCA-8C3C-434B76433AA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0"/>
            <a:ext cx="87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 flipV="1">
            <a:off x="963720" y="973080"/>
            <a:ext cx="1619280" cy="317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D1A57-A616-4124-9D5E-C0C1D92E893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14311-B097-499D-92A3-CDA0E7B0090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V="1">
            <a:off x="1763640" y="1333440"/>
            <a:ext cx="2016360" cy="347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47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tep into works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19640" y="1620360"/>
            <a:ext cx="36036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A6033-6270-41B3-A518-7A1B9F069CE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4448160" y="1476000"/>
            <a:ext cx="3579840" cy="303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A3EE6-BE4B-4EA4-B95A-95D005F85EC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79D09-F93A-449E-B008-976E02D996F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7FA54-A12B-4C32-B6FC-6276AFEBA60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8-11 – as samples of Prog. Lang.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5C040-B5BF-4869-91AF-2BB38B5BCBA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3340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C568E-01B0-495B-AD8D-84CDB939939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- information about the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and the slides if you need additional information during the exerci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t is faster and bett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ED2C3-3202-44EA-8663-EC7DD397E98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77468-85D0-4EE8-AC35-E6B2DB026D6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^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9966C-E727-4097-8200-2EBF0DA01C6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C93B5-A655-45D7-97A4-4BF8E1B02AA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SymbolicDerivative.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82C6F-B1A9-4E2F-AB5B-86B7BFA2561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environment after it was augmented with the ass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ment.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88041-743D-42B1-8990-B938CB61F36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n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TwoType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93D46-104D-42FA-917E-20CAD38C79C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9D8F1-E7CC-4EF3-8850-E0FAE4582C7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polymorphic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higher ord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function that orders a list of any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34769-8FFC-428E-9CA9-93B61A001BB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02E15-A779-4B09-A849-D03FA7A84BF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ree functions that transform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re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real to 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6CEC4-5F3E-4265-B740-AB85EA0081C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6D3B6-D65E-41F2-9029-44EEAFB0735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85D0E-54A2-4060-B109-F2657EE674A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-4644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lvl="1" marL="535320" indent="-2005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Just unpack and set some environment variables. (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lvl="1" marL="535320" indent="-2005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pt-get build-dep openmodelica (Ubuntu/Debian Linux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re-compiled Corba (MICO or omniORB) for tool communication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ackaged Gnu compiler (GCC; Mingw version for 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Codebeamer for bug reporting and manage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Unit testing using the bootstrapped OpenModelica Compil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60456-4DD4-48C4-9AB2-992304C6BD2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-79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614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578A5-9C6F-492B-8CB1-E0F9903373B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71F9B-BC80-44E1-867B-1745CDDAEA3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5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and DrControl –  OMNoteboo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mForge graphic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B4EEC-BE36-495A-8F80-32AA4AB3BF2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1.5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urrently implemented in 280 000 lines of MetaModelica (1.4.5 was 180 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ost of the Modelica 3.1 language including classes, functions, inheritance, modifications, import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A78B8-27AE-4A3C-B2D8-C1A04EDF643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551B4-8657-4269-ADAA-30EFE851749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3040" y="765000"/>
          <a:ext cx="8509320" cy="21732840"/>
        </p:xfrm>
        <a:graphic>
          <a:graphicData uri="http://schemas.openxmlformats.org/drawingml/2006/table">
            <a:tbl>
              <a:tblPr/>
              <a:tblGrid>
                <a:gridCol w="3237120"/>
                <a:gridCol w="5272200"/>
              </a:tblGrid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33516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r" pos="3392640"/>
                          <a:tab algn="l" pos="3649680"/>
                          <a:tab algn="l" pos="4564080"/>
                          <a:tab algn="l" pos="5478480"/>
                          <a:tab algn="l" pos="6392880"/>
                          <a:tab algn="l" pos="7307280"/>
                          <a:tab algn="l" pos="8221680"/>
                          <a:tab algn="l" pos="9136080"/>
                          <a:tab algn="l" pos="10050480"/>
                          <a:tab algn="l" pos="10326600"/>
                          <a:tab algn="l" pos="1077588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15408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154080" algn="just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EF4FD-5CAA-4A18-9BE2-5E1C3AAD1C6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5200" y="1800360"/>
            <a:ext cx="46551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n 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mport many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E8EF1-39AB-468B-9619-A419D8E2525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he Qt4 GUI library, portable between Windows, Linux,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 and compiled nigh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Windows – main release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Linux – main development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Mac –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00BCF-34E4-41B6-88AE-DBEC53A952E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EAAF2-854C-4DAB-A831-A3DA33516C9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tarting the omc process if is not already st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starting is a bit different for Windows/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nding commands to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logging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DejaVu San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develop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7E9AC-75F3-4FFE-8CA0-22CA30E9513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274920" y="3492000"/>
            <a:ext cx="237672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108080" y="1125360"/>
            <a:ext cx="296712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A4905-3CDE-43CF-AC10-D72515C5CC5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What would you like to implement tomorr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in the OpenModelica Compil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4788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ort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le → Im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General → Existing projects into workspac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F1A07-D759-47A9-B382-4091F0901FB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B27A4-F51F-4219-9F8B-5767BE64E25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n't build projects automa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3840" y="720720"/>
            <a:ext cx="8877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84F96-81C3-4FEC-B054-5189A44939D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ölund</cp:lastModifiedBy>
  <cp:lastPrinted>2001-06-05T14:43:50Z</cp:lastPrinted>
  <dcterms:modified xsi:type="dcterms:W3CDTF">2009-10-23T07:24:48Z</dcterms:modified>
  <cp:revision>44</cp:revision>
  <dc:subject>MetaModelica</dc:subject>
  <dc:title>MetaModelica Tutorial and Exercises</dc:title>
</cp:coreProperties>
</file>